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4.png" ContentType="image/png"/>
  <Override PartName="/ppt/media/image27.png" ContentType="image/png"/>
  <Override PartName="/ppt/media/image26.jpeg" ContentType="image/jpeg"/>
  <Override PartName="/ppt/media/image5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189000" y="108000"/>
            <a:ext cx="648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960360" y="8604360"/>
            <a:ext cx="1754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36520" y="685440"/>
            <a:ext cx="45784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29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052640" y="4343400"/>
            <a:ext cx="4681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1052280" y="8604360"/>
            <a:ext cx="2376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6048360" y="8604360"/>
            <a:ext cx="620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A9C9-2524-4761-9966-8C178AE12C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1052640" y="4343400"/>
            <a:ext cx="468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Artikel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Web 2.0? http://www.oreillynet.com/pub/a/oreilly/tim/news/2005/09/30/what-is-web-20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atistiken: http://www.alexa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052640" y="4343400"/>
            <a:ext cx="4681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Bildquelle (Batch „offline“)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ttp://www.web20badges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1052640" y="4343400"/>
            <a:ext cx="4681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Bildquelle (Batch „online“)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ttp://www.web20badges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1052640" y="4343400"/>
            <a:ext cx="4681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Bildquelle (Batch „online“)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ttp://www.web20badges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052640" y="4343400"/>
            <a:ext cx="4681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Bildquelle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ttp://www.blueprint-for-your-databasemarketing.at/beratung/klare_ziel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052640" y="4343400"/>
            <a:ext cx="4681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ildquelle: http://www.wege-zur-ruhe.de/blog/?m=20070805 - http://www.wege-zur-ruhe.de/Bilder/Haare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397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052640" y="4343400"/>
            <a:ext cx="4681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Bildquelle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ttp://wordle.net/ (für einen Delicious-Accou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Formel für Tagcloud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ttp://de.wikipedia.org/wiki/TagClo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5EDC9-DEDB-4DD8-8E57-F10C0CEB52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1412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8280" y="1341360"/>
            <a:ext cx="82360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8280" y="3485880"/>
            <a:ext cx="82360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68725-634C-404E-94C3-1031E1D61D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1412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8280" y="1341360"/>
            <a:ext cx="401904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88560" y="1341360"/>
            <a:ext cx="401904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8280" y="3485880"/>
            <a:ext cx="401904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88560" y="3485880"/>
            <a:ext cx="401904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08D4F-1908-45F7-811E-96E84AA0D8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11412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8280" y="1341360"/>
            <a:ext cx="26517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2880" y="1341360"/>
            <a:ext cx="26517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341360"/>
            <a:ext cx="26517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8280" y="3485880"/>
            <a:ext cx="26517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2880" y="3485880"/>
            <a:ext cx="26517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3485880"/>
            <a:ext cx="26517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3D152-EBBD-4C34-BABB-6F498191F7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1412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68280" y="1341360"/>
            <a:ext cx="82360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1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1412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68280" y="1341360"/>
            <a:ext cx="82360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1412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8280" y="1341360"/>
            <a:ext cx="4019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88560" y="1341360"/>
            <a:ext cx="4019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1412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114120"/>
            <a:ext cx="73627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11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1412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8280" y="1341360"/>
            <a:ext cx="401904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88560" y="1341360"/>
            <a:ext cx="4019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68280" y="3485880"/>
            <a:ext cx="401904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1412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8280" y="1341360"/>
            <a:ext cx="82360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1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0362F-9AA9-47AA-AEAC-C227003764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11412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8280" y="1341360"/>
            <a:ext cx="4019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88560" y="1341360"/>
            <a:ext cx="401904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88560" y="3485880"/>
            <a:ext cx="401904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11412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8280" y="1341360"/>
            <a:ext cx="401904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88560" y="1341360"/>
            <a:ext cx="401904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8280" y="3485880"/>
            <a:ext cx="82360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1412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8280" y="1341360"/>
            <a:ext cx="82360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8280" y="3485880"/>
            <a:ext cx="82360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11412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68280" y="1341360"/>
            <a:ext cx="401904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88560" y="1341360"/>
            <a:ext cx="401904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68280" y="3485880"/>
            <a:ext cx="401904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88560" y="3485880"/>
            <a:ext cx="401904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11412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8280" y="1341360"/>
            <a:ext cx="26517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52880" y="1341360"/>
            <a:ext cx="26517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37840" y="1341360"/>
            <a:ext cx="26517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8280" y="3485880"/>
            <a:ext cx="26517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52880" y="3485880"/>
            <a:ext cx="26517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37840" y="3485880"/>
            <a:ext cx="265176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1412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8280" y="1341360"/>
            <a:ext cx="82360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E8F47-0694-4BAE-B384-D66B6AD934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1412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8280" y="1341360"/>
            <a:ext cx="4019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88560" y="1341360"/>
            <a:ext cx="4019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F327E-388A-4E1A-8A61-C82EEF979E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1412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3A244-C26D-451A-BF04-83B10558F5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114120"/>
            <a:ext cx="73627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11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07D71-8E23-4285-9D7D-5FE86D4B10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1412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8280" y="1341360"/>
            <a:ext cx="401904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88560" y="1341360"/>
            <a:ext cx="4019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8280" y="3485880"/>
            <a:ext cx="401904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0BDF1-FE4B-4E47-B1B1-D37C427F58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1412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8280" y="1341360"/>
            <a:ext cx="4019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88560" y="1341360"/>
            <a:ext cx="401904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88560" y="3485880"/>
            <a:ext cx="401904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46FFD-F9EC-4D44-9467-C3FC9AED28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1412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8280" y="1341360"/>
            <a:ext cx="401904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88560" y="1341360"/>
            <a:ext cx="401904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8280" y="3485880"/>
            <a:ext cx="82360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F40C7-20E2-4187-B1DF-006CB76708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240" y="-3240"/>
            <a:ext cx="9144000" cy="912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1556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29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560" y="1341360"/>
            <a:ext cx="851508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1640">
              <a:lnSpc>
                <a:spcPct val="111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11360" indent="-366840">
              <a:lnSpc>
                <a:spcPct val="111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68480" indent="-355680">
              <a:lnSpc>
                <a:spcPct val="111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4960" indent="-365040">
              <a:lnSpc>
                <a:spcPct val="111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4960" indent="-365040">
              <a:lnSpc>
                <a:spcPct val="111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4960" indent="-365040">
              <a:lnSpc>
                <a:spcPct val="111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356000" y="654660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52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E1B1-BE41-4DA8-8853-C36511F39EDB}" type="slidenum">
              <a:rPr b="0" lang="en-US" sz="900" spc="-1" strike="noStrike">
                <a:solidFill>
                  <a:srgbClr val="0052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0560" y="6505560"/>
            <a:ext cx="5559480" cy="1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664400" y="6149880"/>
            <a:ext cx="124452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412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29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3"/>
          </p:nvPr>
        </p:nvSpPr>
        <p:spPr>
          <a:xfrm>
            <a:off x="304560" y="6584760"/>
            <a:ext cx="86598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52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529f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664400" y="6149880"/>
            <a:ext cx="1244520" cy="503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29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529f"/>
              </a:solidFill>
              <a:latin typeface="Arial"/>
            </a:endParaRPr>
          </a:p>
          <a:p>
            <a:pPr lvl="1" marL="1440" indent="0" algn="ctr">
              <a:lnSpc>
                <a:spcPct val="111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4520" algn="ctr">
              <a:lnSpc>
                <a:spcPct val="111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2800" algn="ctr">
              <a:lnSpc>
                <a:spcPct val="111000"/>
              </a:lnSpc>
              <a:spcAft>
                <a:spcPts val="675"/>
              </a:spcAft>
              <a:buClr>
                <a:srgbClr val="000000"/>
              </a:buClr>
              <a:buFont typeface="Arial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069920" algn="ctr">
              <a:lnSpc>
                <a:spcPct val="111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069920">
              <a:spcBef>
                <a:spcPts val="4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069920">
              <a:spcBef>
                <a:spcPts val="4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04560" y="1773000"/>
            <a:ext cx="822780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11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529f"/>
                </a:solidFill>
                <a:latin typeface="Arial"/>
              </a:rPr>
              <a:t>Moodle für grosse Studiengruppen</a:t>
            </a:r>
            <a:endParaRPr b="0" lang="en-US" sz="3600" spc="-1" strike="noStrike">
              <a:solidFill>
                <a:srgbClr val="00529f"/>
              </a:solidFill>
              <a:latin typeface="Arial"/>
            </a:endParaRPr>
          </a:p>
          <a:p>
            <a:pPr>
              <a:lnSpc>
                <a:spcPct val="111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29f"/>
              </a:solidFill>
              <a:latin typeface="Arial"/>
            </a:endParaRPr>
          </a:p>
          <a:p>
            <a:pPr>
              <a:lnSpc>
                <a:spcPct val="111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529f"/>
                </a:solidFill>
                <a:latin typeface="Arial"/>
              </a:rPr>
              <a:t>Die Kurse ICT 1&amp;2 der HWZ</a:t>
            </a:r>
            <a:endParaRPr b="0" lang="en-US" sz="2400" spc="-1" strike="noStrike">
              <a:solidFill>
                <a:srgbClr val="00529f"/>
              </a:solidFill>
              <a:latin typeface="Arial"/>
            </a:endParaRPr>
          </a:p>
          <a:p>
            <a:pPr>
              <a:lnSpc>
                <a:spcPct val="111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529f"/>
                </a:solidFill>
                <a:latin typeface="Arial"/>
              </a:rPr>
              <a:t>Martin.Voegeli@fh-hwz.ch</a:t>
            </a:r>
            <a:endParaRPr b="0" lang="en-US" sz="2400" spc="-1" strike="noStrike">
              <a:solidFill>
                <a:srgbClr val="00529f"/>
              </a:solidFill>
              <a:latin typeface="Arial"/>
            </a:endParaRPr>
          </a:p>
          <a:p>
            <a:pPr>
              <a:lnSpc>
                <a:spcPct val="111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529f"/>
                </a:solidFill>
                <a:latin typeface="Arial"/>
              </a:rPr>
              <a:t>Version 2009/04/29</a:t>
            </a:r>
            <a:endParaRPr b="0" lang="en-US" sz="2400" spc="-1" strike="noStrike">
              <a:solidFill>
                <a:srgbClr val="00529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1556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529f"/>
                </a:solidFill>
                <a:latin typeface="Arial"/>
              </a:rPr>
              <a:t>Gruppen (2/3): Dokumente „Wiki-like“ erarbeiten</a:t>
            </a: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0" t="0" r="23032" b="0"/>
          <a:stretch/>
        </p:blipFill>
        <p:spPr>
          <a:xfrm>
            <a:off x="0" y="907920"/>
            <a:ext cx="9142560" cy="51339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186520" y="1700280"/>
            <a:ext cx="3849480" cy="354780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Arial"/>
              </a:rPr>
              <a:t>Input les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Arial"/>
              </a:rPr>
              <a:t>Brainstorm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Arial"/>
              </a:rPr>
              <a:t>Strukturier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Arial"/>
              </a:rPr>
              <a:t>Formulier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2658E-0AF8-4290-A015-AB0082E9F4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11556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529f"/>
                </a:solidFill>
                <a:latin typeface="Arial"/>
              </a:rPr>
              <a:t>Gruppen (3/3): Scratch – Imagine, Program, Share</a:t>
            </a: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5196" r="0" b="5196"/>
          <a:stretch/>
        </p:blipFill>
        <p:spPr>
          <a:xfrm>
            <a:off x="0" y="907920"/>
            <a:ext cx="9140760" cy="511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7F042-94DB-43AE-AB55-C229B67B00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907920"/>
            <a:ext cx="9144000" cy="50421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11556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529f"/>
                </a:solidFill>
                <a:latin typeface="Arial"/>
              </a:rPr>
              <a:t>Aufgaben (1/3): Podcast Teaser – Online Aktivität</a:t>
            </a: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6740640" cy="5038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507120" y="1341360"/>
            <a:ext cx="56764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Arial"/>
              </a:rPr>
              <a:t>Direkt in Text korrigier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708360" y="1920960"/>
            <a:ext cx="216000" cy="716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79200" y="3068640"/>
            <a:ext cx="563076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Arial"/>
              </a:rPr>
              <a:t>Plagiate – Google frag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506560" y="3649680"/>
            <a:ext cx="505080" cy="716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9A988-D3A8-4353-9AEC-4B1B7199AE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560" y="115560"/>
            <a:ext cx="88390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529f"/>
                </a:solidFill>
                <a:latin typeface="Arial"/>
              </a:rPr>
              <a:t>Aufgaben (2/3): Podcast Drehbuch – Datei hochladen</a:t>
            </a: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2813" r="0" b="2813"/>
          <a:stretch/>
        </p:blipFill>
        <p:spPr>
          <a:xfrm>
            <a:off x="0" y="907920"/>
            <a:ext cx="9140760" cy="5127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292920" y="3933720"/>
            <a:ext cx="41634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Arial"/>
              </a:rPr>
              <a:t>2. Kommentier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2123640" y="3173400"/>
            <a:ext cx="1513080" cy="79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68560" y="2705040"/>
            <a:ext cx="31482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Arial"/>
              </a:rPr>
              <a:t>3. Bewert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30040" y="5734080"/>
            <a:ext cx="40734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Arial"/>
              </a:rPr>
              <a:t>1. Herunterlad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659640" y="5733720"/>
            <a:ext cx="934920" cy="291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47760" y="1492200"/>
            <a:ext cx="1792080" cy="1792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flipV="1">
            <a:off x="6659640" y="1267920"/>
            <a:ext cx="576360" cy="143676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D9FFD-4825-47AB-BEF4-385F35681C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rcRect l="0" t="2813" r="0" b="2813"/>
          <a:stretch/>
        </p:blipFill>
        <p:spPr>
          <a:xfrm>
            <a:off x="0" y="907920"/>
            <a:ext cx="9144000" cy="51292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560" y="115560"/>
            <a:ext cx="88390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529f"/>
                </a:solidFill>
                <a:latin typeface="Arial"/>
              </a:rPr>
              <a:t>Aufgaben (3/3): Podcast MP3 – Datei hochladen</a:t>
            </a: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92920" y="3933720"/>
            <a:ext cx="41634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Arial"/>
              </a:rPr>
              <a:t>2. Kommentier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2123640" y="3173400"/>
            <a:ext cx="1513080" cy="79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68560" y="2705040"/>
            <a:ext cx="31482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Arial"/>
              </a:rPr>
              <a:t>3. Bewert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74080" y="5802480"/>
            <a:ext cx="41860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Arial"/>
              </a:rPr>
              <a:t>1. Direkt anhör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716360" y="5802120"/>
            <a:ext cx="935280" cy="291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55680" y="1454040"/>
            <a:ext cx="1752480" cy="17906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 flipV="1">
            <a:off x="6659640" y="1267920"/>
            <a:ext cx="576360" cy="143676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C9CB5-5E93-4680-B9DA-35F72D2E19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560" y="115560"/>
            <a:ext cx="88390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529f"/>
                </a:solidFill>
                <a:latin typeface="Arial"/>
              </a:rPr>
              <a:t>Kommunikation (1/3): </a:t>
            </a:r>
            <a:r>
              <a:rPr b="1" lang="de-DE" sz="2400" spc="-1" strike="noStrike">
                <a:solidFill>
                  <a:srgbClr val="00529f"/>
                </a:solidFill>
                <a:latin typeface="Arial"/>
              </a:rPr>
              <a:t>Nachrichtenforum – Wichtige News</a:t>
            </a: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3412"/>
          <a:stretch/>
        </p:blipFill>
        <p:spPr>
          <a:xfrm>
            <a:off x="0" y="907920"/>
            <a:ext cx="9144000" cy="5139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540240" y="2489040"/>
            <a:ext cx="540396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Arial"/>
              </a:rPr>
              <a:t>Alle bekommen E-Mai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300720" y="2136240"/>
            <a:ext cx="432000" cy="352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110880" y="5081760"/>
            <a:ext cx="54511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Arial"/>
              </a:rPr>
              <a:t>Archivierte Nachricht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668680" y="4728960"/>
            <a:ext cx="431640" cy="352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76EA8-86C9-432C-81DE-105BB87E1A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115560"/>
            <a:ext cx="8835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529f"/>
                </a:solidFill>
                <a:latin typeface="Arial"/>
              </a:rPr>
              <a:t>Kommunikation (2/3): Mitteilungen und E-Mails – Fragen</a:t>
            </a: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0760" cy="4975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97640" y="2708280"/>
            <a:ext cx="280836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Arial"/>
              </a:rPr>
              <a:t>Verfass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87520" y="3281400"/>
            <a:ext cx="26056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Arial"/>
              </a:rPr>
              <a:t>Kontak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26280" y="3713040"/>
            <a:ext cx="27856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Arial"/>
              </a:rPr>
              <a:t>Rückblic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0CD87-EEC1-4CAE-BDE6-66416EAEEFA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11556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529f"/>
                </a:solidFill>
                <a:latin typeface="Arial"/>
              </a:rPr>
              <a:t>Kommunikation (3/3): Diskussionsforum – FAQ</a:t>
            </a: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26085"/>
          <a:stretch/>
        </p:blipFill>
        <p:spPr>
          <a:xfrm>
            <a:off x="0" y="907920"/>
            <a:ext cx="9144000" cy="51260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339800" y="2849400"/>
            <a:ext cx="438876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Arial"/>
              </a:rPr>
              <a:t>Freiwillige E-Mai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581880" y="2496600"/>
            <a:ext cx="431640" cy="352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F3F76-7A89-402D-AFF7-EEDADFE563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11412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529f"/>
                </a:solidFill>
                <a:latin typeface="Arial"/>
              </a:rPr>
              <a:t>Fragen, Anregungen, Hinweise?</a:t>
            </a: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442880" y="3311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1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12840" y="981000"/>
            <a:ext cx="858024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11556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529f"/>
                </a:solidFill>
                <a:latin typeface="Arial"/>
              </a:rPr>
              <a:t>Ziel – Gesammelte Erfahrungen weitergeben</a:t>
            </a: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38240" y="1341360"/>
            <a:ext cx="418140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1000"/>
              </a:lnSpc>
              <a:spcAft>
                <a:spcPts val="15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000000"/>
                </a:solidFill>
                <a:latin typeface="Arial"/>
              </a:rPr>
              <a:t>Allgeme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1000"/>
              </a:lnSpc>
              <a:spcAft>
                <a:spcPts val="15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000000"/>
                </a:solidFill>
                <a:latin typeface="Arial"/>
              </a:rPr>
              <a:t>Unterla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1000"/>
              </a:lnSpc>
              <a:spcAft>
                <a:spcPts val="15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000000"/>
                </a:solidFill>
                <a:latin typeface="Arial"/>
              </a:rPr>
              <a:t>Grupp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1000"/>
              </a:lnSpc>
              <a:spcAft>
                <a:spcPts val="15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000000"/>
                </a:solidFill>
                <a:latin typeface="Arial"/>
              </a:rPr>
              <a:t>Aufgab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1000"/>
              </a:lnSpc>
              <a:spcAft>
                <a:spcPts val="15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000" spc="-1" strike="noStrike">
                <a:solidFill>
                  <a:srgbClr val="000000"/>
                </a:solidFill>
                <a:latin typeface="Arial"/>
              </a:rPr>
              <a:t>Kommunik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Rectangle 3" descr=""/>
          <p:cNvPicPr/>
          <p:nvPr/>
        </p:nvPicPr>
        <p:blipFill>
          <a:blip r:embed="rId1"/>
          <a:stretch/>
        </p:blipFill>
        <p:spPr>
          <a:xfrm>
            <a:off x="1047600" y="1728720"/>
            <a:ext cx="2695680" cy="390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A1322-00A5-440A-802E-29540D71BB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11556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529f"/>
                </a:solidFill>
                <a:latin typeface="Arial"/>
              </a:rPr>
              <a:t>Allgemeines (1/3): Das erste Mal dozieren…</a:t>
            </a: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0760" cy="5194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556000" y="2421000"/>
            <a:ext cx="6335640" cy="206460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Nächte lang vorbereit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Diskussionen wegen Not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ieben Kilogramm wenig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E7614-CAF7-47E8-9C40-8F2FE56025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0760" cy="5040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115560"/>
            <a:ext cx="8835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529f"/>
                </a:solidFill>
                <a:latin typeface="Arial"/>
              </a:rPr>
              <a:t>Allgemeines (2/3): Die Kurse ICT 1&amp;2 – Themen</a:t>
            </a: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081080" y="907920"/>
            <a:ext cx="6981840" cy="5038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-229320" y="907920"/>
            <a:ext cx="456876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Arial"/>
              </a:rPr>
              <a:t>Je 120 Studieren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68560" y="907920"/>
            <a:ext cx="373500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Arial"/>
              </a:rPr>
              <a:t>à vier Grupp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258120" y="5370480"/>
            <a:ext cx="409464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Arial"/>
              </a:rPr>
              <a:t>Je acht Halbta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7120" y="5370480"/>
            <a:ext cx="549684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Arial"/>
              </a:rPr>
              <a:t>Über 1000 Bewertung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3BDA1-9B52-4339-B0A6-33DDAE2D3D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11556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529f"/>
                </a:solidFill>
                <a:latin typeface="Arial"/>
              </a:rPr>
              <a:t>Allgemeines (3/3): Themenformat bei Moodle</a:t>
            </a: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8857"/>
          <a:stretch/>
        </p:blipFill>
        <p:spPr>
          <a:xfrm>
            <a:off x="0" y="907920"/>
            <a:ext cx="9140760" cy="512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1D7DD-B71F-4DC6-AA47-79988D8303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11556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529f"/>
                </a:solidFill>
                <a:latin typeface="Arial"/>
              </a:rPr>
              <a:t>Unterlagen (1/3): Folienschlacht (PPT und PDF)</a:t>
            </a: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909720"/>
            <a:ext cx="85150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0000"/>
          </a:bodyPr>
          <a:p>
            <a:pPr algn="ctr">
              <a:lnSpc>
                <a:spcPct val="111000"/>
              </a:lnSpc>
              <a:spcAft>
                <a:spcPts val="114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0500" spc="-1" strike="noStrike">
                <a:solidFill>
                  <a:srgbClr val="000000"/>
                </a:solidFill>
                <a:latin typeface="Arial Black"/>
              </a:rPr>
              <a:t>432</a:t>
            </a:r>
            <a:endParaRPr b="1" lang="en-US" sz="30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D165A-BE81-4926-B22B-E535C9155E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0760" cy="51148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1556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529f"/>
                </a:solidFill>
                <a:latin typeface="Arial"/>
              </a:rPr>
              <a:t>Unterlagen (2/3): Hauptglossar</a:t>
            </a: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067280" y="2465280"/>
            <a:ext cx="4967280" cy="2064600"/>
          </a:xfrm>
          <a:prstGeom prst="rect">
            <a:avLst/>
          </a:prstGeom>
          <a:solidFill>
            <a:srgbClr val="00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Arial"/>
              </a:rPr>
              <a:t>Literatur, Softwa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Arial"/>
              </a:rPr>
              <a:t>Automatisch verlink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Arial"/>
              </a:rPr>
              <a:t>Tags bei Them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9A206-A105-4436-9DE1-4068FE8406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11556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529f"/>
                </a:solidFill>
                <a:latin typeface="Arial"/>
              </a:rPr>
              <a:t>Unterlagen (3/3): Notenrechner (Excel vs. Flash)</a:t>
            </a: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0" t="0" r="0" b="3338"/>
          <a:stretch/>
        </p:blipFill>
        <p:spPr>
          <a:xfrm>
            <a:off x="3240" y="907920"/>
            <a:ext cx="9140760" cy="5083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70640" y="1341360"/>
            <a:ext cx="46144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Arial"/>
              </a:rPr>
              <a:t>1. Punkte eintrag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796000" y="1920960"/>
            <a:ext cx="216000" cy="716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40480" y="3862440"/>
            <a:ext cx="456876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ffffff"/>
                </a:solidFill>
                <a:latin typeface="Arial"/>
              </a:rPr>
              <a:t>2. Endnote ables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443640" y="4441680"/>
            <a:ext cx="504720" cy="716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F562D-D2CA-4F00-B8A3-0B1E9A658B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59280" y="1123920"/>
            <a:ext cx="3019320" cy="22654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115560"/>
            <a:ext cx="7362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529f"/>
                </a:solidFill>
                <a:latin typeface="Arial"/>
              </a:rPr>
              <a:t>Gruppen (1/3): Multimedia-Beispiele sammeln</a:t>
            </a:r>
            <a:endParaRPr b="1" lang="en-US" sz="2400" spc="-1" strike="noStrike">
              <a:solidFill>
                <a:srgbClr val="00529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137040" y="4005360"/>
            <a:ext cx="3019320" cy="22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6124680" y="907920"/>
            <a:ext cx="3019320" cy="22654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440" y="907920"/>
            <a:ext cx="3019680" cy="2265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544680" y="2316240"/>
            <a:ext cx="3019320" cy="2265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3276720" y="2708280"/>
            <a:ext cx="3019320" cy="2265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0" y="3789360"/>
            <a:ext cx="3019320" cy="22654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8"/>
          <a:stretch/>
        </p:blipFill>
        <p:spPr>
          <a:xfrm>
            <a:off x="5513400" y="2316240"/>
            <a:ext cx="3019320" cy="22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9"/>
          <a:stretch/>
        </p:blipFill>
        <p:spPr>
          <a:xfrm>
            <a:off x="6124680" y="3789360"/>
            <a:ext cx="3019320" cy="226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BD696-8E03-4BA3-8BD8-ED2DAD331C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1T12:24:33Z</dcterms:created>
  <dc:creator>HWZ</dc:creator>
  <dc:description/>
  <dc:language>en-US</dc:language>
  <cp:lastModifiedBy>Martin Vögeli</cp:lastModifiedBy>
  <cp:lastPrinted>2008-02-22T07:41:39Z</cp:lastPrinted>
  <dcterms:modified xsi:type="dcterms:W3CDTF">2009-04-27T08:51:26Z</dcterms:modified>
  <cp:revision>500</cp:revision>
  <dc:subject/>
  <dc:title>Folie 1</dc:title>
</cp:coreProperties>
</file>