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187200" y="117000"/>
            <a:ext cx="6423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2"/>
          </p:nvPr>
        </p:nvSpPr>
        <p:spPr>
          <a:xfrm>
            <a:off x="3925440" y="9342360"/>
            <a:ext cx="17384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1042920" y="4716000"/>
            <a:ext cx="4640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3"/>
          </p:nvPr>
        </p:nvSpPr>
        <p:spPr>
          <a:xfrm>
            <a:off x="1042920" y="9342360"/>
            <a:ext cx="2355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4"/>
          </p:nvPr>
        </p:nvSpPr>
        <p:spPr>
          <a:xfrm>
            <a:off x="5994000" y="9342360"/>
            <a:ext cx="615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30B-654A-43D6-88A1-07B26E797F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42920" y="4716000"/>
            <a:ext cx="4640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 Hintergrund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morguefile.com/archive/display/622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42920" y="4716000"/>
            <a:ext cx="4640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morguefile.com/archive/display/484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morguefile.com/data/imageData/public/files/p/ppdigital/preview/fldr_2005_01_08/file000136138280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42920" y="4716000"/>
            <a:ext cx="4640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morguefile.com/archive/display/654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morguefile.com/data/imageData/public/files/a/alvimann/preview/fldr_2010_02_13/file6941266100445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EE9E-F286-40E2-A418-B53848A09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7857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FA1C-79B9-4ACA-BA7D-1CE915811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907D-A54D-46A1-9FF7-4FA38AAFA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384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312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384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312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9551-E822-458A-9B34-93728C719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15560"/>
            <a:ext cx="7362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FBDA-6E91-4D47-AA5F-E1BA560C9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77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560" y="37857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77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384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312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56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384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312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D172-D3C6-4B36-AA9D-74A8FD9750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920" y="115560"/>
            <a:ext cx="7362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77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4560" y="37857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77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8384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63120" y="13413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456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8384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63120" y="3785760"/>
            <a:ext cx="2741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5A1D-8B33-4B2E-80D8-390A80B43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FFDA-8F70-471C-ADBB-377031D21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15560"/>
            <a:ext cx="7362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B4DA-6FB2-47BB-9193-5C6C3E27D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3C8D-FB42-4861-8199-C325F3B9E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857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FB1E-FC8D-4F10-A482-E0FE9786E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341360"/>
            <a:ext cx="41551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785760"/>
            <a:ext cx="8515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BF29-BF74-490B-99BD-2243BDF46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beton balken_100dpi"/>
          <p:cNvPicPr/>
          <p:nvPr/>
        </p:nvPicPr>
        <p:blipFill>
          <a:blip r:embed="rId2"/>
          <a:stretch/>
        </p:blipFill>
        <p:spPr>
          <a:xfrm>
            <a:off x="-3240" y="-3240"/>
            <a:ext cx="9144000" cy="91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668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8480" indent="-3556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56000" y="64623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52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A5E7-03C0-4684-B774-5222CB60A925}" type="slidenum">
              <a:rPr b="1" lang="en-US" sz="900" spc="-1" strike="noStrike">
                <a:solidFill>
                  <a:srgbClr val="0052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7201080" y="6273720"/>
            <a:ext cx="16048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beton_t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Grafik 0" descr="2009_Logo-HWZ-transparent.gif"/>
          <p:cNvPicPr/>
          <p:nvPr/>
        </p:nvPicPr>
        <p:blipFill>
          <a:blip r:embed="rId3"/>
          <a:stretch/>
        </p:blipFill>
        <p:spPr>
          <a:xfrm>
            <a:off x="6161040" y="6186600"/>
            <a:ext cx="2478240" cy="430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668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8480" indent="-3556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beton_t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Grafik 0" descr="2009_Logo-HWZ-transparent.gif"/>
          <p:cNvPicPr/>
          <p:nvPr/>
        </p:nvPicPr>
        <p:blipFill>
          <a:blip r:embed="rId3"/>
          <a:stretch/>
        </p:blipFill>
        <p:spPr>
          <a:xfrm>
            <a:off x="6161040" y="6186600"/>
            <a:ext cx="2478240" cy="430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668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8480" indent="-3556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6000" y="1774440"/>
            <a:ext cx="8513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529f"/>
                </a:solidFill>
                <a:latin typeface="Arial"/>
              </a:rPr>
              <a:t>[Moodle] Multimedia</a:t>
            </a:r>
            <a:endParaRPr b="1" lang="en-US" sz="36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6000" y="4103280"/>
            <a:ext cx="85136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1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9f"/>
                </a:solidFill>
                <a:latin typeface="Arial"/>
              </a:rPr>
              <a:t>SwissMoodleDay, 16. Sept. 2010, Zürich » http://moodle.ch/da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6000" y="4589640"/>
            <a:ext cx="85136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Martin </a:t>
            </a:r>
            <a:r>
              <a:rPr b="1" sz="2400" spc="-1" strike="noStrike">
                <a:solidFill>
                  <a:srgbClr val="00529f"/>
                </a:solidFill>
                <a:latin typeface="Arial"/>
              </a:rPr>
              <a:t>Vögeli</a:t>
            </a: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, </a:t>
            </a:r>
            <a:r>
              <a:rPr b="1" sz="2400" spc="-1" strike="noStrike">
                <a:solidFill>
                  <a:srgbClr val="00529f"/>
                </a:solidFill>
                <a:latin typeface="Arial"/>
              </a:rPr>
              <a:t>+41 76 505 8 503</a:t>
            </a: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, </a:t>
            </a:r>
            <a:r>
              <a:rPr b="1" sz="2400" spc="-1" strike="noStrike">
                <a:solidFill>
                  <a:srgbClr val="00529f"/>
                </a:solidFill>
                <a:latin typeface="Arial"/>
              </a:rPr>
              <a:t>martinvoegeli@gmx.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23640" y="5137200"/>
            <a:ext cx="85136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529f"/>
                </a:solidFill>
                <a:latin typeface="Arial"/>
              </a:rPr>
              <a:t>Version: 20</a:t>
            </a: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10</a:t>
            </a:r>
            <a:r>
              <a:rPr b="1" sz="2400" spc="-1" strike="noStrike">
                <a:solidFill>
                  <a:srgbClr val="00529f"/>
                </a:solidFill>
                <a:latin typeface="Arial"/>
              </a:rPr>
              <a:t>/09/</a:t>
            </a: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15560"/>
            <a:ext cx="873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Text in Moodle muss nicht langweilig sein…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" y="907920"/>
            <a:ext cx="9140760" cy="507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3600" y="1012680"/>
            <a:ext cx="4765680" cy="45972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eine Tag Cloud bei Deli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852640"/>
            <a:ext cx="5992920" cy="45972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ie kann ich RSS-Feeds einb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348160"/>
            <a:ext cx="4392720" cy="45972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witter Goodies ›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85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15560"/>
            <a:ext cx="883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  <a:ea typeface="Arial"/>
              </a:rPr>
              <a:t>YouTube- und Vimeo-Perlen in Moodle fass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9720" y="1763640"/>
            <a:ext cx="5318640" cy="459720"/>
          </a:xfrm>
          <a:prstGeom prst="rec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Videos von YouTube einb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0440" y="4340160"/>
            <a:ext cx="4931280" cy="459720"/>
          </a:xfrm>
          <a:prstGeom prst="rec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Videos von Vimeo einb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86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15560"/>
            <a:ext cx="883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Was Sie schon immer über Multimedia wissen wollten…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4640" y="3213000"/>
            <a:ext cx="5919120" cy="459720"/>
          </a:xfrm>
          <a:prstGeom prst="rec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lidecast (Folien mit Ton) 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7160" y="1459080"/>
            <a:ext cx="7963920" cy="459720"/>
          </a:xfrm>
          <a:prstGeom prst="rec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JavaScript in Moodle? 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  <a:ea typeface="Arial"/>
              </a:rPr>
              <a:t>→ NABU (Webcam, Tex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3240" y="4869000"/>
            <a:ext cx="5236200" cy="459720"/>
          </a:xfrm>
          <a:prstGeom prst="rec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ratch oder Flash einbet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6000" y="115560"/>
            <a:ext cx="8513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Fragen, Anregungen, Hinweise?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47" name="Picture 4" descr="Bild31"/>
          <p:cNvPicPr/>
          <p:nvPr/>
        </p:nvPicPr>
        <p:blipFill>
          <a:blip r:embed="rId1"/>
          <a:stretch/>
        </p:blipFill>
        <p:spPr>
          <a:xfrm>
            <a:off x="312840" y="982800"/>
            <a:ext cx="85834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8:07:56Z</dcterms:created>
  <dc:creator>Martin Vögeli</dc:creator>
  <dc:description/>
  <dc:language>en-US</dc:language>
  <cp:lastModifiedBy>Martin Vögeli</cp:lastModifiedBy>
  <cp:lastPrinted>2008-02-22T07:41:39Z</cp:lastPrinted>
  <dcterms:modified xsi:type="dcterms:W3CDTF">2010-09-27T08:59:57Z</dcterms:modified>
  <cp:revision>12</cp:revision>
  <dc:subject/>
  <dc:title>Willkommen zum Kurs ICT 1</dc:title>
</cp:coreProperties>
</file>